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4139-10C0-4E2C-A96D-00D4DBC16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24D0-865D-48C9-A64E-47C7813C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5B67-926C-44FE-A213-88F8A948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5F1-2FB8-48D7-A3A2-27E6FA76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248-FE37-4A64-85EA-113EAEB4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B40-37D6-4615-B2F5-920F952F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153-52DC-43C9-B0E4-0E8CDE78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D4D-943C-45CC-8F86-F45A5B13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41D-7707-4378-B690-411C37C5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B77-99D3-4E59-9D4D-5D38EA9E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3E8-0C3E-4F62-99B4-DDC08E8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833-DC1E-4564-ABC6-E6FA3767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189-76B2-4345-A0CD-79596D84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4B9-AD4D-4C49-9A77-9E3E6A3F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DED-0841-44BC-9BEB-22935A05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BE8-F0AA-4D34-B7CE-F9F41A8C1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 - Catalyst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000-8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203720" y="3557520"/>
            <a:ext cx="7365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738600" y="888840"/>
            <a:ext cx="1666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000-16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203720" y="3557520"/>
            <a:ext cx="7365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000-16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203720" y="3557520"/>
            <a:ext cx="7365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000-24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000-24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000-48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000-48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000-8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203720" y="3557520"/>
            <a:ext cx="7365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</cp:lastModifiedBy>
  <dcterms:modified xsi:type="dcterms:W3CDTF">2021-05-11T18:20:08Z</dcterms:modified>
  <cp:revision>5</cp:revision>
  <dc:subject/>
  <dc:title>Slide 1</dc:title>
</cp:coreProperties>
</file>